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155-AD15-40DF-A2BC-63071960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222-A9A2-48D7-B6FB-162BE024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698-A338-4CB0-812B-AF06B6F2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361-1120-4959-B4FA-94C2F185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3677-C325-48B8-AAA8-7CC679A6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545-55ED-439D-9716-F831C22A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7680-02EA-4B82-9237-C0AEA7E0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4A16-1712-4786-8FA4-23E6A04E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8A0B-C311-4696-BD13-85166A88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F301-CEE3-49E0-8DC6-1B982BD5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57A7-E478-449F-BFF9-8214816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DF5-A0B7-4A72-897A-ECA69131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E9DF-DCEC-4645-A0E8-12B2F131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C5A9-B894-4617-B8CF-341B0C53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9575-51B1-4AC9-BC9D-79D603AD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F410-7289-4BBE-BA19-A43C44EF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952A-6AE6-4289-88AC-43F76FB0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BBA-1631-4929-826D-FB0904A2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43B-21D2-42EF-A7F1-1479D54C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7EC-E97D-43FB-AAFD-6294376C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935-8BD5-48B8-AD62-99E67AD7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DFB-94C1-4769-B079-DCA725F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A8D-6629-4139-B6E9-93362870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18B-EEAE-4842-A22B-D9C41AFA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D551-DC20-4FCC-B38D-533735601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Оформляшки\5e226a3bbf95.png"/>
          <p:cNvPicPr/>
          <p:nvPr/>
        </p:nvPicPr>
        <p:blipFill>
          <a:blip r:embed="rId3"/>
          <a:srcRect l="-872" t="46843" r="5153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E19E-0608-4E8E-BB53-CC0BA7F04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3"/>
          <p:cNvSpPr txBox="1"/>
          <p:nvPr/>
        </p:nvSpPr>
        <p:spPr>
          <a:xfrm>
            <a:off x="1714680" y="1143000"/>
            <a:ext cx="6858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коны  класса  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Picture 4" descr="D:\клипарты\Дети\33513e45d6d6.png"/>
          <p:cNvPicPr/>
          <p:nvPr/>
        </p:nvPicPr>
        <p:blipFill>
          <a:blip r:embed="rId2"/>
          <a:stretch/>
        </p:blipFill>
        <p:spPr>
          <a:xfrm>
            <a:off x="2500200" y="3427560"/>
            <a:ext cx="2714760" cy="343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2"/>
          <a:stretch/>
        </p:blipFill>
        <p:spPr>
          <a:xfrm>
            <a:off x="1768320" y="42840"/>
            <a:ext cx="5712120" cy="1116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464400" y="5357880"/>
            <a:ext cx="76500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ереги своё здоровье и здоров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кружающих теб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D:\клипарты\люди\9b09dacd8435.png"/>
          <p:cNvPicPr/>
          <p:nvPr/>
        </p:nvPicPr>
        <p:blipFill>
          <a:blip r:embed="rId3"/>
          <a:stretch/>
        </p:blipFill>
        <p:spPr>
          <a:xfrm>
            <a:off x="571680" y="1357200"/>
            <a:ext cx="3429000" cy="371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клипарты\Дети\880dd372e36c.png"/>
          <p:cNvPicPr/>
          <p:nvPr/>
        </p:nvPicPr>
        <p:blipFill>
          <a:blip r:embed="rId4"/>
          <a:stretch/>
        </p:blipFill>
        <p:spPr>
          <a:xfrm>
            <a:off x="5205240" y="1357200"/>
            <a:ext cx="2652840" cy="36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1" descr=""/>
          <p:cNvPicPr/>
          <p:nvPr/>
        </p:nvPicPr>
        <p:blipFill>
          <a:blip r:embed="rId2"/>
          <a:stretch/>
        </p:blipFill>
        <p:spPr>
          <a:xfrm>
            <a:off x="1773360" y="42840"/>
            <a:ext cx="5346720" cy="1116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442080" y="5000760"/>
            <a:ext cx="81331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орожи школьной дружбой, цени с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ласс, школу. Научись радоваться не 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воим успехам, но и успехам товари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D:\клипарты\люди\1c83907c84ef.png"/>
          <p:cNvPicPr/>
          <p:nvPr/>
        </p:nvPicPr>
        <p:blipFill>
          <a:blip r:embed="rId3"/>
          <a:stretch/>
        </p:blipFill>
        <p:spPr>
          <a:xfrm>
            <a:off x="1500120" y="1428840"/>
            <a:ext cx="6280200" cy="338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786040" y="357120"/>
            <a:ext cx="387180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  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9" name="Picture 3" descr="D:\клипарты\Дети\872addd2b1a5.png"/>
          <p:cNvPicPr/>
          <p:nvPr/>
        </p:nvPicPr>
        <p:blipFill>
          <a:blip r:embed="rId2"/>
          <a:stretch/>
        </p:blipFill>
        <p:spPr>
          <a:xfrm>
            <a:off x="3000240" y="1643040"/>
            <a:ext cx="296712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000080" y="4714920"/>
            <a:ext cx="650088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атериал из «Портфолио второкласс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Авторы-составители: Е.А. Андреева, Н.В. Разваля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осква. Планета, 201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айт: «Школа АБВ»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http://www.shkola-ab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формление: Елены Берюх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738360" y="5286240"/>
            <a:ext cx="7541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Будь добр к ближнему и добр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ернётся к те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2"/>
          <a:stretch/>
        </p:blipFill>
        <p:spPr>
          <a:xfrm>
            <a:off x="1908000" y="42840"/>
            <a:ext cx="4712040" cy="111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D:\клипарты\люди\7e1924f17e3a.png"/>
          <p:cNvPicPr/>
          <p:nvPr/>
        </p:nvPicPr>
        <p:blipFill>
          <a:blip r:embed="rId3"/>
          <a:stretch/>
        </p:blipFill>
        <p:spPr>
          <a:xfrm>
            <a:off x="3071880" y="1357200"/>
            <a:ext cx="3124080" cy="390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667800" y="4857840"/>
            <a:ext cx="79513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тремись познавать себя и ми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владевай знаниями и готовься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амостояте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1768320" y="42840"/>
            <a:ext cx="5583240" cy="111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клипарты\люди\08d0a37d15c1.png"/>
          <p:cNvPicPr/>
          <p:nvPr/>
        </p:nvPicPr>
        <p:blipFill>
          <a:blip r:embed="rId3"/>
          <a:stretch/>
        </p:blipFill>
        <p:spPr>
          <a:xfrm>
            <a:off x="2357280" y="1071720"/>
            <a:ext cx="4429440" cy="388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2"/>
          <a:stretch/>
        </p:blipFill>
        <p:spPr>
          <a:xfrm>
            <a:off x="1768320" y="42840"/>
            <a:ext cx="4857840" cy="1116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744480" y="1428840"/>
            <a:ext cx="78328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ежде чем требовать внимание к себ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яви его к окружающим людям. Пом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 их интересах, нуждах, потреб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клипарты\люди\8b17921adefe.png"/>
          <p:cNvPicPr/>
          <p:nvPr/>
        </p:nvPicPr>
        <p:blipFill>
          <a:blip r:embed="rId3"/>
          <a:stretch/>
        </p:blipFill>
        <p:spPr>
          <a:xfrm>
            <a:off x="500040" y="3071880"/>
            <a:ext cx="399096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клипарты\люди\16fa245c2025t.jpg"/>
          <p:cNvPicPr/>
          <p:nvPr/>
        </p:nvPicPr>
        <p:blipFill>
          <a:blip r:embed="rId4"/>
          <a:stretch/>
        </p:blipFill>
        <p:spPr>
          <a:xfrm>
            <a:off x="5786280" y="3184560"/>
            <a:ext cx="2214720" cy="350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2"/>
          <a:stretch/>
        </p:blipFill>
        <p:spPr>
          <a:xfrm>
            <a:off x="560520" y="42840"/>
            <a:ext cx="834552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510480" y="5357880"/>
            <a:ext cx="78876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лавное относись к людям так, как хочеш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тобы относили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клипарты\люди\03c2c4c066dat.jpg"/>
          <p:cNvPicPr/>
          <p:nvPr/>
        </p:nvPicPr>
        <p:blipFill>
          <a:blip r:embed="rId3"/>
          <a:stretch/>
        </p:blipFill>
        <p:spPr>
          <a:xfrm>
            <a:off x="2214720" y="1285920"/>
            <a:ext cx="2090520" cy="39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клипарты\люди\3e787f63d861.jpg"/>
          <p:cNvPicPr/>
          <p:nvPr/>
        </p:nvPicPr>
        <p:blipFill>
          <a:blip r:embed="rId4"/>
          <a:stretch/>
        </p:blipFill>
        <p:spPr>
          <a:xfrm>
            <a:off x="4643280" y="1357200"/>
            <a:ext cx="2971800" cy="396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1127160" y="109440"/>
            <a:ext cx="6462720" cy="1116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448920" y="4857840"/>
            <a:ext cx="82702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ебе сегодня хорошо, но рядом могут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люди, у которых слёзы на глазах. Не забы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D:\клипарты\люди\семья\parents057.gif"/>
          <p:cNvPicPr/>
          <p:nvPr/>
        </p:nvPicPr>
        <p:blipFill>
          <a:blip r:embed="rId3"/>
          <a:stretch/>
        </p:blipFill>
        <p:spPr>
          <a:xfrm>
            <a:off x="2571840" y="1251000"/>
            <a:ext cx="4071960" cy="3537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2"/>
          <a:stretch/>
        </p:blipFill>
        <p:spPr>
          <a:xfrm>
            <a:off x="1487520" y="42840"/>
            <a:ext cx="5688000" cy="1116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316440" y="4857840"/>
            <a:ext cx="84286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чешь, чтоб тебя уважали, - уважай 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интересы других людей, а также стар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жить так, чтобы людям с тобой было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клипарты\люди\семья\parents077.gif"/>
          <p:cNvPicPr/>
          <p:nvPr/>
        </p:nvPicPr>
        <p:blipFill>
          <a:blip r:embed="rId3"/>
          <a:stretch/>
        </p:blipFill>
        <p:spPr>
          <a:xfrm>
            <a:off x="4286160" y="128592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2"/>
          <a:stretch/>
        </p:blipFill>
        <p:spPr>
          <a:xfrm>
            <a:off x="1768320" y="42840"/>
            <a:ext cx="519300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457560" y="5429160"/>
            <a:ext cx="81115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Запомни, правда нужна не только тебе, но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кружающим тебя людям. Будь правд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клипарты\люди\0f32bd9346b0.png"/>
          <p:cNvPicPr/>
          <p:nvPr/>
        </p:nvPicPr>
        <p:blipFill>
          <a:blip r:embed="rId3"/>
          <a:stretch/>
        </p:blipFill>
        <p:spPr>
          <a:xfrm>
            <a:off x="2857680" y="1285920"/>
            <a:ext cx="374004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2"/>
          <a:stretch/>
        </p:blipFill>
        <p:spPr>
          <a:xfrm>
            <a:off x="1768320" y="42840"/>
            <a:ext cx="549756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669600" y="5000760"/>
            <a:ext cx="766044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ждый человек хочет быть свобод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тстаивая свою свободу, не забывай 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вободе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клипарты\люди\семья\parents046.gif"/>
          <p:cNvPicPr/>
          <p:nvPr/>
        </p:nvPicPr>
        <p:blipFill>
          <a:blip r:embed="rId3"/>
          <a:stretch/>
        </p:blipFill>
        <p:spPr>
          <a:xfrm>
            <a:off x="3143160" y="1214280"/>
            <a:ext cx="3619440" cy="36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3:47:59Z</dcterms:created>
  <dc:creator>Helen</dc:creator>
  <dc:description/>
  <dc:language>en-US</dc:language>
  <cp:lastModifiedBy>Boris</cp:lastModifiedBy>
  <dcterms:modified xsi:type="dcterms:W3CDTF">2012-11-23T15:06:50Z</dcterms:modified>
  <cp:revision>7</cp:revision>
  <dc:subject/>
  <dc:title>Слайд 1</dc:title>
</cp:coreProperties>
</file>